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7.wmf" ContentType="image/x-wmf"/>
  <Override PartName="/ppt/media/image9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png" ContentType="image/pn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7F92A-636A-4495-B705-196B3212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9B6F4-FDF5-487C-9D3A-8053511C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C54C3-EFAC-4A54-A257-9AE864EE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54506-8158-424A-A504-58DD1795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4BB3D-A642-4983-A965-5430A8DA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0ED3A-E8D9-4AB1-AFA7-F191C3E3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42DDC-D6FE-4E92-A5DB-DD60865F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F8C1D-8FEE-4A4A-A192-EF6AD6CA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80798-4039-491E-92EA-0C4AF54A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A628D-DD9B-48DD-B4A0-BE95EDB1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5A959-06DF-4F43-BAD9-1D52A0F3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B2B8E-EB40-4B0C-8A12-CB107F8F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01396F-5BAE-494B-A0DC-C039F1FCBF52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44356BF-FBFE-4332-A53F-5462B3FD5A9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V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I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09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P&amp;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80360" y="395280"/>
            <a:ext cx="1511280" cy="1260360"/>
          </a:xfrm>
          <a:prstGeom prst="wedgeEllipseCallout">
            <a:avLst>
              <a:gd name="adj1" fmla="val -14532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5800" y="1866960"/>
            <a:ext cx="8223480" cy="4613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19008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fficiency, ROA,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0" y="1008000"/>
            <a:ext cx="1619280" cy="1260360"/>
          </a:xfrm>
          <a:prstGeom prst="wedgeEllipseCallout">
            <a:avLst>
              <a:gd name="adj1" fmla="val -32449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35080" y="2519280"/>
            <a:ext cx="4444920" cy="2719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80000" y="2411280"/>
            <a:ext cx="495612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on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02000" y="0"/>
            <a:ext cx="577836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2520" y="3884760"/>
            <a:ext cx="863748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ock &amp;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ney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rke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0360" y="1979640"/>
            <a:ext cx="1619280" cy="1260360"/>
          </a:xfrm>
          <a:prstGeom prst="wedgeEllipseCallout">
            <a:avLst>
              <a:gd name="adj1" fmla="val 96143"/>
              <a:gd name="adj2" fmla="val 10415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Central Ban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2160720"/>
            <a:ext cx="820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targeted to public sect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rolled exchange rate and liquid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Govern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1640" y="1440000"/>
            <a:ext cx="838836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balanced the budget – March 200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o little too late – (local elections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sued 750 mil € bonds in M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2160360"/>
            <a:ext cx="820908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like some other countries – banks helped government – 2,8 bln €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squeezing out of private sector (stil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asonable credit a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ising interest ra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isks lie in real sect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ing Associ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8680" y="208548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remely ac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ensive media covera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st questions to banks ended up with 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ordinating respon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presence in newspapers, TV and radio, web portals than entire 200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281 - “value” close to €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87 presences - “value” close to €2,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76, additional web portals 3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9% “neutral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DP Growt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5157720"/>
            <a:ext cx="35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157720"/>
            <a:ext cx="39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ith final annual calculation of the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419640" y="5040360"/>
            <a:ext cx="1960560" cy="1738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fl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19640" y="179280"/>
            <a:ext cx="2160360" cy="2311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CPI inflation (1996-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1998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 RPI inflation) and core inflation, 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" y="2575080"/>
            <a:ext cx="4038480" cy="2579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648320" y="2617920"/>
            <a:ext cx="4038480" cy="2493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716360" y="5157720"/>
            <a:ext cx="3961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flation in Croatia and Turkey is measured by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umer price index, and in the other selected countries by harmonized index of consumer prices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s: CBS, Eurostat and central banks' web si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tl Reserves and Deposi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287280"/>
            <a:ext cx="1511280" cy="1511280"/>
          </a:xfrm>
          <a:prstGeom prst="wedgeEllipseCallout">
            <a:avLst>
              <a:gd name="adj1" fmla="val -40550"/>
              <a:gd name="adj2" fmla="val 62254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19640" y="1979640"/>
            <a:ext cx="4319640" cy="341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9640" y="1827360"/>
            <a:ext cx="3159360" cy="4113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1680" y="1814400"/>
            <a:ext cx="8339040" cy="3584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urrent Account and Foreign Deb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1979640"/>
            <a:ext cx="1511280" cy="1260360"/>
          </a:xfrm>
          <a:prstGeom prst="wedgeEllipseCallout">
            <a:avLst>
              <a:gd name="adj1" fmla="val -31199"/>
              <a:gd name="adj2" fmla="val 6496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1611360"/>
            <a:ext cx="4934160" cy="5168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256360" y="3749760"/>
            <a:ext cx="374472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Assets – Exchange Rat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160720"/>
            <a:ext cx="516420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580000" y="1673280"/>
            <a:ext cx="3195720" cy="4086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6320" y="1800360"/>
            <a:ext cx="6043320" cy="1800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39640" y="3780000"/>
            <a:ext cx="249084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04720" y="5222880"/>
            <a:ext cx="2554560" cy="1436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240000" y="4859280"/>
            <a:ext cx="5751720" cy="1300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480000" y="3060720"/>
            <a:ext cx="2340000" cy="1547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pital Adequac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1628640"/>
            <a:ext cx="59403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ulatory capital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tal exposure to ris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72360" y="720720"/>
            <a:ext cx="1871640" cy="1763640"/>
          </a:xfrm>
          <a:prstGeom prst="wedgeEllipseCallout">
            <a:avLst>
              <a:gd name="adj1" fmla="val -2124"/>
              <a:gd name="adj2" fmla="val 32125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VE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332000" y="2217600"/>
            <a:ext cx="6192720" cy="3908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09-06-16T13:55:16Z</dcterms:modified>
  <cp:revision>70</cp:revision>
  <dc:subject/>
  <dc:title>KREDITNI REGISTAR KAO INSTITUCIJA RAZVIJENOG FINANCIJSKOG TRŽIŠ</dc:title>
</cp:coreProperties>
</file>